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1FC-BFA2-454A-A15B-F16FF3A6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FAA-34F4-4BBF-8E79-03666998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45592-28BE-46AE-A8CD-BBE431E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32570-2F97-4C90-9A06-64915A2D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FF50E-F003-4139-8C49-5BF3A2EC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C3C7E-A100-4B72-BB60-FDA38C25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D8CA8-A71B-4D48-8969-9AA9F8F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67C24-B286-462B-86A7-79E3532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72C29-8974-4A9C-97E7-873C0915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C5392-40B3-4A6C-A9EB-84853F7B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5FC40-B9F6-45DA-A84A-E0DC4F3C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BDD4B-20CB-4D5B-9DA1-06E2D96D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1B5-1B8D-460C-AAE0-DE658637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840FF-FC3D-4B90-A773-EF2913BD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2BBC8-D6E5-4C5A-9B9C-AA09482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33D62-EE1F-4FCE-93D4-BAA9367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AADA5-23B4-409D-87A1-6D77064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A0A34-A7D9-4955-AC98-03DEF13F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E4029-D929-4036-8397-DCE33B06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654AA-D08F-4401-807A-BC36862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D040-B8ED-4296-B3F2-5C91859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AD32F-8E86-41AF-A436-10F62FBC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8B533-8C38-44C2-8B9A-C47DA048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4BA-5028-40E3-A71A-258149EB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CC554-EE18-4A78-96F2-950C0E6F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27D1-E33E-4089-844C-DFDCD9A4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A2C8-01DF-4A19-88BB-E993684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BA86-30BA-4A88-96D8-8B50C4A3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D3A-B92E-4F8F-AC8A-52423C5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AF66-556C-47A9-875B-272014D6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6833-0488-415B-A4EC-C578BDF4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3F0A-1B49-47A7-899F-38B8AB3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648-9E26-4DED-AECB-FC58DFA1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C22-8B34-4868-ABA6-DAC34EB2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EDF9-5F9D-4946-AB91-7DB0104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C830-20AB-4EA7-810C-D6BAE485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067-E75D-4E0E-BC67-EBF90FBB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47D7-94E2-4D0A-8375-289F5781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F349-14D3-4BC5-9D9A-31B8E0E1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63A6-44A8-4F39-A6A4-0366C3A1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09A5-C1DC-42B0-BDDE-29375D5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6A3B-317B-4AAF-96F8-FE36279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8033-078D-4969-9F12-8DE4F39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117-9125-4309-A447-51684BFE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82C6-6282-4B41-AFCB-952FB6D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687F-EA8B-43CF-ABF7-61B647F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B1CB-FD0D-4850-941F-755733BB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A7A3-3A4F-4B35-9B19-D52C2073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D812-45DC-41CB-9A87-BCAFCB6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CC4F-4FCF-40A5-B796-3A4D0995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8F46-AAA7-4E1D-A0CF-01BB9AE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10C4-C92A-4758-B320-AF460F31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A5DF-62A6-4AD7-B742-C39AE2F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229A-BD6E-41F6-AE6F-6130FF71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83A-2EF9-4F55-8396-7971143F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B2F6-F873-467C-883E-DBFD2B7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F135-A45E-4385-BA58-ED59051D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CAA2-5799-43EE-AFC0-6CEE71B6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8C0B-E1D2-4E27-8036-89AD213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CB67-6B32-4D40-8E7E-3919B1EC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C36A-9367-4A52-8C99-8F426DB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0688-7F5A-444E-A81A-5F251B4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3B51-FCB4-4F92-BBC2-996CB422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8A29-9ADE-4E9B-B334-CE18AD8F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BCC6-7230-4E6C-B68F-77EC263E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AD6-F9BB-4E1E-A485-AA1762FC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0A4D-EE5E-47AA-B250-F0BC410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1C03B-19D4-473B-AC30-00D9FAC1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D5A2-733D-4883-9EA0-D466D86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64C3B-08FB-4868-B799-FF91D4B5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EEAE-F44E-4ACA-8763-4770FFD5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24CE-7FCD-4A73-B44A-FB70926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08CA-C5B3-4B1F-9F7F-4F7BEBAD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33F28-7F15-450D-9825-BD32F5E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761F2-E2F9-4D45-BBAB-89881EF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EB52-729C-4A41-B837-6A8404C9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B09-78AE-4128-89FD-D357311D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F7B7-B6FF-4F98-BB11-9089F826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C0E4-05FB-44AC-82EC-5852EBAA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1CBC5-4B0D-4408-A0DD-C0D0BFA7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C9A2D-D7AC-4FB3-9D7D-D330D3C5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0797-68C9-425D-97D3-C89885DF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8DAB-C733-43CE-BCE6-ADA4727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435A-FB79-4B0D-B37E-C6519675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F31F-8DF8-4B0A-BFA9-07DD246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621D-7254-421B-A948-9659B78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B3483-C4A6-459E-87F0-939BE0A9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56E-A1EF-4E75-A8FB-F334EBA9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826B-514F-49F1-BCAD-A1F12D26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C612-02E1-4009-8B6C-ADCBC903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C87AA-5621-43DC-9AC0-26B843FE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6AD9-2502-40A1-BFBD-CEABF9D4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E344-D55C-44C0-94ED-C97BB10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8ABC3-00FF-4265-91D4-04184D7E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9B018-E419-4CAC-9623-F056AFE6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4E477-AB64-40D9-B65C-BC0ABC6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0FFD-6758-4F9D-88DD-120B9A7E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F21A2-6887-482B-8029-45EF490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CDE-1804-483C-9C6C-8D84D67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D97C2-53B1-4417-8895-D46D2E82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99E9-6120-42FD-9E04-0F766E8B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290E4-07B3-4E2F-9625-BF1E07E9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E390-4340-48C3-A872-E75D24E7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83DA-82DE-4DDD-81AB-7EAD7121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ADB8-F42C-4908-910D-CB1373A7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FE48-B41F-4243-967C-79A8C153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C91D5-0539-4B0B-9890-710EEEE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FA94A-C83F-45D1-8325-987744BC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470B1-D073-46B2-9533-AC2377F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4DE-B64A-4070-9502-3D3C3883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9A1C-01FE-4897-A50A-D9A4C942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0DF0-D0B3-4B0B-A5A3-5B52719D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D7A93-5BC8-42B9-AE27-8E37038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15F7-EA73-490E-B963-AA18094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9A0B0-B43D-498E-9C0D-3C48323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30FB-8107-4A74-9313-59F72E15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4202-1ADB-4557-BA56-7BFAF3F7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3202-4103-4FEC-97B2-E2254B3A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EAF82-C44C-4492-8151-48DC217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A2F7-1555-4529-8CE8-1C10E9C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B4A-3C3B-4343-9A1C-C02F196114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9887-CA48-44DA-A738-D357C09BDD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AE42-B047-4573-9CF2-AB62CC3AC1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2EE0-6325-49AE-9465-DEFB640973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F77-A2BB-4F3B-99ED-F86433ED0D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884B-F5E3-43F1-A7E5-6812EA79C9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6C07-4D23-4E0C-90F2-0D303E1EEB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189-913F-406C-A4B6-63F47BF06D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6FD1-C6BF-4635-A76E-26FC0E7F71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19B-85F6-4E25-90C0-7F4FC33847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по муниципальному долгу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го округа город Первомайск Нижегородской области на 01.09.2018 г.</a:t>
            </a:r>
            <a:br>
              <a:rPr sz="1600"/>
            </a:br>
            <a:endParaRPr b="0" lang="en-US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2" name="Object 7"/>
          <p:cNvGraphicFramePr/>
          <p:nvPr/>
        </p:nvGraphicFramePr>
        <p:xfrm>
          <a:off x="4646520" y="1409760"/>
          <a:ext cx="4303800" cy="247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409760"/>
                    <a:ext cx="430380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 Box 13"/>
          <p:cNvSpPr/>
          <p:nvPr/>
        </p:nvSpPr>
        <p:spPr>
          <a:xfrm>
            <a:off x="6372360" y="3500280"/>
            <a:ext cx="29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ые кредиты;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Line 15"/>
          <p:cNvSpPr/>
          <p:nvPr/>
        </p:nvSpPr>
        <p:spPr>
          <a:xfrm flipH="1" flipV="1">
            <a:off x="7308720" y="2923920"/>
            <a:ext cx="7192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5721480" y="1557360"/>
            <a:ext cx="31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муниципального долг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01.09.2018г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50920" y="1916280"/>
          <a:ext cx="5329080" cy="124272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</a:tblGrid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Вид заим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умма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оглашения о получении бюджетных кредитов от бюджетов других уровней бюджетн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ВСЕГО по муниципальному дол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Text Box 68"/>
          <p:cNvSpPr/>
          <p:nvPr/>
        </p:nvSpPr>
        <p:spPr>
          <a:xfrm>
            <a:off x="3205440" y="38638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нение лимито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63440" y="4211640"/>
          <a:ext cx="8785440" cy="2587680"/>
        </p:xfrm>
        <a:graphic>
          <a:graphicData uri="http://schemas.openxmlformats.org/drawingml/2006/table">
            <a:tbl>
              <a:tblPr/>
              <a:tblGrid>
                <a:gridCol w="5761080"/>
                <a:gridCol w="1582920"/>
                <a:gridCol w="1441440"/>
              </a:tblGrid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Требование нормативного доку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Лимит (тыс.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Факт (тыс.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9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Предельный объем муниципального долга городского округа город Первомайск Нижегородской области на 2018 год (от 25 июля 2018 года № 102 «О внесении изменений в решение городской Думы городского округа город Первомайск Нижегородской области от 11 декабря 2017 года № 43 «О бюджете  городского округа город Первомайск Нижегородской области на 2018 год и на плановый период 2019 и 2020 годов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1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Предельный объем расходов на обслуживание муниципального долга городского округа город Первомайск Нижегородской области на 2018 год (от 25 июля 2018 года № 102 «О внесении изменений в решение городской Думы городского округа город Первомайск Нижегородской области от 11 декабря 2017 года № 43 «О бюджете  городского округа город Первомайск Нижегородской област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а 2018 год и на плановый период 2019 и 2020 годов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3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25:09Z</dcterms:created>
  <dc:creator>Таланова Т.Н., Ванина В.В.</dc:creator>
  <dc:description/>
  <dc:language>en-US</dc:language>
  <cp:lastModifiedBy>fu9</cp:lastModifiedBy>
  <dcterms:modified xsi:type="dcterms:W3CDTF">2018-12-10T08:17:40Z</dcterms:modified>
  <cp:revision>777</cp:revision>
  <dc:subject/>
  <dc:title>Слайд 1</dc:title>
</cp:coreProperties>
</file>