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22E8C-36D5-4DFE-B408-520E1EFD8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AAA53-A137-472E-BC23-1A936D6E5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5A2D28-58B0-4BDD-89FD-CE1ED53CD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CF7806-BC82-4705-9A48-96F8FA892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2A7337-0217-4C00-BCD9-82E5246E0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DB7305-D7E9-4E81-ADDD-17AF7DCF5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A6C8D7-9B17-464A-957D-4D4A536C2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E361B8-3746-4D74-AD95-2656C37A9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C92671-72E9-4204-B109-CF73DD8E2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576D48-ADCA-461E-9597-C1892586A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267E6F-D0D3-48CB-BF0F-C2BCFAB84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AA9528-34C4-46E2-A154-CEB8B927D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5040D-B1D8-4315-B733-8815ACEB8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27E3B1-74F8-44F0-8CAC-B4E8B7D44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9BA402-7A99-40E8-8617-AAAB001C9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A3BED7-9326-4367-A7B2-C0D0A86A5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A15EAF-4611-4E65-934C-F7FBF47AD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92979D-319D-47E2-95D2-3157D2DFC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8D0F42-2F26-49FB-BC68-CF5B6BDCD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9942EB-07B8-4AED-BB73-2051EFBF6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C2332C-BEB8-48F4-875F-445847996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F2424F-1675-45B6-B47F-0D605F76B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DEAC8F-C0E4-4C92-95C2-02C40117B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775C3-2C0E-4377-8448-63BC68229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9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0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C876F2-C50A-4937-9A49-C4941E7AD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8D1B1-4F9F-4A80-853D-BBD26DBC0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EE39B-5739-43A5-83B5-1DF70FD17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38F6B-96C3-4C04-A258-9DF12ACE2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71A4B-ED65-46C2-ACF3-ADC6E9655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CF80F-9E3D-46E0-B95B-E0C3A05B6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2AA99-77D9-4B8A-BA56-1F099CE03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03829-23F5-477C-AB41-48EB050A0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F9724-53DD-4040-B7FF-5F07ADFAC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61F43-0628-479F-9F1A-221618247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33F60-54CB-43D2-A1E2-168050296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D7B16-2F3F-4620-87B3-389F51061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AE866-292B-47DC-8C75-E3EBC8208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9FA8A-D2C9-4150-9FFC-CB09B41AD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412091-DC83-4E47-9606-C718E88FB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8F9762-19B6-4F75-AE30-32C9DE15D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63BC70-0362-4859-99BB-D76D06A25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F36113-BDF6-406B-BF84-59B098DCD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ECFEAA-3B1D-428F-B47B-FAC1BC278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61D19-5CFC-4717-B5CC-B5F4FE84A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977A98-8AAA-40CC-9182-F0C5504CE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A1B69B-C455-4B65-849E-290DA528A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815671-45B6-4763-82E5-D1DD054BA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CF4C77-22EA-4B80-A029-9F5D71158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978459-4F07-4B9A-A8F8-5F118D5B3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797E08-97FE-48C3-AD6C-24CDA7F6F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501EE5-1C6E-433B-AB08-4983447B3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7B7683-2522-4B1A-9032-6522AE549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0CC835-5A8E-41D6-833F-1AAC86502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E8C8E8-EDEB-4D1E-9579-C8EB9DE93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1D896-23E3-4B64-9BE1-9A4D76CC7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14409C-7FA2-488B-9F51-041DFD2DF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9D8FBA-6CAD-4A69-A309-27047D0DE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1619B7-4966-4B60-ACA2-BACFCCC0F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B36A85-58E5-49C5-9E9E-0009E0D9C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D564C1-FBEA-4368-99CD-D4421F154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7E889F-12C2-4006-BE07-96B4E6E01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C24E47-26ED-498E-BF02-F378AFD75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E6D67E-251E-4744-917F-4EE03EEA9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3B02C8-E5E4-4943-98BD-4BA79AE13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88CD3A-3F9A-4784-9801-3C4FE8923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3A371-C6F0-4099-95B3-8040A304B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512666-AE91-47C1-872C-A50F28F4A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2C1D4C-A2E4-4364-806C-E36943A99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DC6267-E75F-491A-9353-BFABFB1D0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CDF78A-FF39-45C6-8C36-1D8DA785F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9FF7A2-C94A-4BB9-A9A8-3505A4D54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4AE732-4428-40F5-8EBA-F6F017FBD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5FDC6E-0C1A-4625-B7BF-BCEFB0149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5B606C-7929-4358-B987-C3E2A4B48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C0C1F4-CA4A-4447-8F1D-AD2099678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3D22D3-2AF4-4DC1-BC52-4A79E01A0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8C63C-899B-416B-9565-927F0ED88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E1A386-2361-4D2E-8FE7-A0046C23A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2CF7BA-FBE8-4096-9806-50DC9AFA7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EC8EC2-55FF-4CE7-9C1E-56746F062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8D7381-C233-4B40-99C9-663D3EB89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D4EF7C-E135-4C14-AC41-B7ED1300A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297A5A-A6DA-4FD4-970A-1A90E625D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CDC7CF-8AF7-496A-A935-1898F3950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2E9D9D-785A-49B4-BCA7-7AAC9237E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B86EE9-F89F-473A-A6B0-F42D228E7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C0ED22-06D4-4F98-9BA4-7DC692711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9CA0E-2E48-43E6-AB14-9D535CAEF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46C564-F109-4FA2-9FA9-1F2C7BDCF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5328E7-3FFF-4C1C-9172-855D319D3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8121B5-B37B-47BF-A346-034ABA4CF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A581C3-26B3-4318-A1DC-E764BBEBF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FB1C58-82B7-4720-867A-71597E6C0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4FF0D5-E503-4BC5-A7BD-2333EAE6F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3F1101-4146-448E-B8E5-6B8FAC26C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344839-1664-4F2C-B647-536E66B51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A502FB-332F-48D1-9358-D700E7BC9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0622E1-7F6E-4FCD-936A-4BB169889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AADF0-55A3-43C4-ACCA-717DFE279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DA5B2F-5CF2-4439-856E-2F330AF5E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063F97-0FEB-49BB-AD7C-0F4800683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EF756B-7590-4892-9B18-489A0B5DD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F6A7B2-E37F-4457-9BBA-AB3EBF880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7D7B5E-54D6-41D6-90C6-D379C1977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05FAFF-6221-4CBE-8BD0-C5BC3081B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EC33EA-CF01-40E6-A564-ADF4C5D74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407185-FC74-46F3-AF5F-4B675DEAD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FA2079-9955-4150-9CAD-909BB2881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142D25-8403-49AC-A08B-88D77333F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5C307-CA40-4EFC-B6E5-77A273AA7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47E2A8-01A8-4B4F-8EE0-3F85D4F61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97EA45-E272-4754-AA64-0907A5EF8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365A05-E945-4A2A-AA38-7E98DE66A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025364-B74D-41B6-A220-9603C9737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C78F91-8ECB-4091-B6B8-CF466F22B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F80E4E-6E28-4A79-AD8B-E3CF9380D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BA690A-2A31-4743-BC78-4CA44F118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9BC8B7-2932-442E-A014-99B5CFCD4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761075-47A6-445F-A355-3F07CACA7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35FC63-F58C-4D00-8BB6-9B9D4B752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4F091-3B0F-418D-B134-6487D8D778E2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dt" idx="28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 type="ftr" idx="29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 type="sldNum" idx="30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76FA1-FC1A-4043-BF93-CFB5C81CD724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12640" y="5346720"/>
            <a:ext cx="8631360" cy="11160"/>
            <a:chOff x="512640" y="5346720"/>
            <a:chExt cx="8631360" cy="111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34672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0DD8A-068F-4EF1-B13A-4C98B121BDC9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12"/>
          <p:cNvGrpSpPr/>
          <p:nvPr/>
        </p:nvGrpSpPr>
        <p:grpSpPr>
          <a:xfrm>
            <a:off x="512640" y="3438360"/>
            <a:ext cx="8631360" cy="11160"/>
            <a:chOff x="512640" y="3438360"/>
            <a:chExt cx="8631360" cy="11160"/>
          </a:xfrm>
        </p:grpSpPr>
        <p:pic>
          <p:nvPicPr>
            <p:cNvPr id="9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34383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</p:grpSp>
      <p:sp>
        <p:nvSpPr>
          <p:cNvPr id="9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ftr" idx="8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sldNum" idx="9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B2B66-0314-4851-86E2-45D8F082DEB6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Прямая соединительная линия 12"/>
          <p:cNvGrpSpPr/>
          <p:nvPr/>
        </p:nvGrpSpPr>
        <p:grpSpPr>
          <a:xfrm>
            <a:off x="512640" y="6016680"/>
            <a:ext cx="8631360" cy="12600"/>
            <a:chOff x="512640" y="6016680"/>
            <a:chExt cx="8631360" cy="12600"/>
          </a:xfrm>
        </p:grpSpPr>
        <p:pic>
          <p:nvPicPr>
            <p:cNvPr id="13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60166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</p:grpSp>
      <p:sp>
        <p:nvSpPr>
          <p:cNvPr id="14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9137A-6CD8-494E-9B27-C0911AA64969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FDB1D-52CB-493F-A25E-1E6276EB6BF5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78684-0645-4F6C-9EE5-13E8B5DA9F19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" name="Прямая соединительная линия 12"/>
          <p:cNvGrpSpPr/>
          <p:nvPr/>
        </p:nvGrpSpPr>
        <p:grpSpPr>
          <a:xfrm>
            <a:off x="512640" y="5846760"/>
            <a:ext cx="8631360" cy="11160"/>
            <a:chOff x="512640" y="5846760"/>
            <a:chExt cx="8631360" cy="11160"/>
          </a:xfrm>
        </p:grpSpPr>
        <p:pic>
          <p:nvPicPr>
            <p:cNvPr id="26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8467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</p:grpSp>
      <p:sp>
        <p:nvSpPr>
          <p:cNvPr id="26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A4C47-2D59-4A07-B19C-54A7FC5DB0D8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FF983-D9CE-4487-A516-E1E9B7C2B8BE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2E444-1E63-40C9-8D9F-54BECAD22183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71424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ормация по муниципальному долгу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родского округа город Первомайск Нижегородской области на 01.06.2018 г.</a:t>
            </a:r>
            <a:br>
              <a:rPr sz="1600"/>
            </a:br>
            <a:endParaRPr b="0" lang="en-US" sz="1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aphicFrame>
        <p:nvGraphicFramePr>
          <p:cNvPr id="432" name="Object 7"/>
          <p:cNvGraphicFramePr/>
          <p:nvPr/>
        </p:nvGraphicFramePr>
        <p:xfrm>
          <a:off x="4646520" y="1409760"/>
          <a:ext cx="4303800" cy="2473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33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6520" y="1409760"/>
                    <a:ext cx="4303800" cy="247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4" name="Text Box 13"/>
          <p:cNvSpPr/>
          <p:nvPr/>
        </p:nvSpPr>
        <p:spPr>
          <a:xfrm>
            <a:off x="6372360" y="3500280"/>
            <a:ext cx="2950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Бюджетные кредиты; </a:t>
            </a: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100%</a:t>
            </a: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35" name="Line 15"/>
          <p:cNvSpPr/>
          <p:nvPr/>
        </p:nvSpPr>
        <p:spPr>
          <a:xfrm flipH="1" flipV="1">
            <a:off x="7308720" y="2923920"/>
            <a:ext cx="719280" cy="64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36" name="Text Box 17"/>
          <p:cNvSpPr/>
          <p:nvPr/>
        </p:nvSpPr>
        <p:spPr>
          <a:xfrm>
            <a:off x="5721480" y="1557360"/>
            <a:ext cx="3192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труктура муниципального долга</a:t>
            </a: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а 01.06.2018г.</a:t>
            </a: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graphicFrame>
        <p:nvGraphicFramePr>
          <p:cNvPr id="437" name=""/>
          <p:cNvGraphicFramePr/>
          <p:nvPr/>
        </p:nvGraphicFramePr>
        <p:xfrm>
          <a:off x="250920" y="1916280"/>
          <a:ext cx="5329080" cy="1242720"/>
        </p:xfrm>
        <a:graphic>
          <a:graphicData uri="http://schemas.openxmlformats.org/drawingml/2006/table">
            <a:tbl>
              <a:tblPr/>
              <a:tblGrid>
                <a:gridCol w="3108240"/>
                <a:gridCol w="2220840"/>
              </a:tblGrid>
              <a:tr h="304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4e3b30"/>
                          </a:solidFill>
                          <a:latin typeface="Arial"/>
                        </a:rPr>
                        <a:t>Вид заимствов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4e3b30"/>
                          </a:solidFill>
                          <a:latin typeface="Arial"/>
                        </a:rPr>
                        <a:t>Сумма (тыс.руб.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</a:tr>
              <a:tr h="639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e3b30"/>
                          </a:solidFill>
                          <a:latin typeface="Arial"/>
                        </a:rPr>
                        <a:t>Соглашения о получении бюджетных кредитов от бюджетов других уровней бюджетной систем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e3b30"/>
                          </a:solidFill>
                          <a:latin typeface="Arial"/>
                        </a:rPr>
                        <a:t>800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8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4e3b30"/>
                          </a:solidFill>
                          <a:latin typeface="Arial"/>
                        </a:rPr>
                        <a:t>ВСЕГО по муниципальному долг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4e3b30"/>
                          </a:solidFill>
                          <a:latin typeface="Arial"/>
                        </a:rPr>
                        <a:t>800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8" name="Text Box 68"/>
          <p:cNvSpPr/>
          <p:nvPr/>
        </p:nvSpPr>
        <p:spPr>
          <a:xfrm>
            <a:off x="3205440" y="3933720"/>
            <a:ext cx="270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Исполнение лимитов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graphicFrame>
        <p:nvGraphicFramePr>
          <p:cNvPr id="439" name=""/>
          <p:cNvGraphicFramePr/>
          <p:nvPr/>
        </p:nvGraphicFramePr>
        <p:xfrm>
          <a:off x="179280" y="4437000"/>
          <a:ext cx="8785440" cy="2346480"/>
        </p:xfrm>
        <a:graphic>
          <a:graphicData uri="http://schemas.openxmlformats.org/drawingml/2006/table">
            <a:tbl>
              <a:tblPr/>
              <a:tblGrid>
                <a:gridCol w="5761080"/>
                <a:gridCol w="1582920"/>
                <a:gridCol w="1441440"/>
              </a:tblGrid>
              <a:tr h="5176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4e3b30"/>
                          </a:solidFill>
                          <a:latin typeface="Arial"/>
                        </a:rPr>
                        <a:t>Требование нормативного докумен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4e3b30"/>
                          </a:solidFill>
                          <a:latin typeface="Arial"/>
                        </a:rPr>
                        <a:t>Лимит (тыс.руб.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4e3b30"/>
                          </a:solidFill>
                          <a:latin typeface="Arial"/>
                        </a:rPr>
                        <a:t>Факт (тыс.руб.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</a:tr>
              <a:tr h="823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e3b30"/>
                          </a:solidFill>
                          <a:latin typeface="Arial"/>
                        </a:rPr>
                        <a:t>Предельный объем муниципального долга городского округа город Первомайск Нижегородской области на 2018 год (от 11 декабря 2017 года № 43 «О бюджете городского округа город Первомайск Нижегородской области на 2018 год и на плановый период 2019 и 2020 годов»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e3b30"/>
                          </a:solidFill>
                          <a:latin typeface="Arial"/>
                        </a:rPr>
                        <a:t>16167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e3b30"/>
                          </a:solidFill>
                          <a:latin typeface="Arial"/>
                        </a:rPr>
                        <a:t>800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5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e3b30"/>
                          </a:solidFill>
                          <a:latin typeface="Arial"/>
                        </a:rPr>
                        <a:t>Предельный объем расходов на обслуживание муниципального долга городского округа город Первомайск Нижегородской области на 2018 год (от 11 декабря 2017 года № 43 «О бюджете городского округа город Первомайск Нижегородской области на 2018 год и на плановый период 2019 и 2020 годов»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4e3b30"/>
                          </a:solidFill>
                          <a:latin typeface="Arial"/>
                        </a:rPr>
                        <a:t>11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4e3b30"/>
                          </a:solidFill>
                          <a:latin typeface="Arial"/>
                        </a:rPr>
                        <a:t>6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wheel spokes="1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2T07:25:09Z</dcterms:created>
  <dc:creator>Таланова Т.Н., Ванина В.В.</dc:creator>
  <dc:description/>
  <dc:language>en-US</dc:language>
  <cp:lastModifiedBy>fu7</cp:lastModifiedBy>
  <dcterms:modified xsi:type="dcterms:W3CDTF">2018-06-02T06:00:48Z</dcterms:modified>
  <cp:revision>770</cp:revision>
  <dc:subject/>
  <dc:title>Слайд 1</dc:title>
</cp:coreProperties>
</file>