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FFF1-5285-48A3-BDC1-B6A67CA0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19D3-29A8-4BAA-92C2-1F35DBF5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F785-C0D1-4E4B-907A-3499088C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DF59-B0DC-4734-8FF1-CA7D6B43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8DD0-D0D8-4755-870A-70EEDF9F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0638-5EC8-4E58-81A1-5C2CB9FD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16BA-E5E4-4BDF-A4A1-FC48504D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4DD4-F1D5-4A21-B810-CBA15432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8011-312A-4793-8981-2BFDF6F1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6012-D381-41E9-A24B-22DEB95D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9D31-7BA3-472C-B5E4-58D08872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E9D6-566B-456A-B2AB-32E2F34A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E88E-1C35-4E88-8A01-E66F702884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1258920" y="3068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Object 22" descr=""/>
          <p:cNvPicPr/>
          <p:nvPr/>
        </p:nvPicPr>
        <p:blipFill>
          <a:blip r:embed="rId1"/>
          <a:stretch/>
        </p:blipFill>
        <p:spPr>
          <a:xfrm>
            <a:off x="635040" y="1649520"/>
            <a:ext cx="7616880" cy="44942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1403280" y="63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3564000" y="6308640"/>
            <a:ext cx="360360" cy="287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5651640" y="6308640"/>
            <a:ext cx="360360" cy="287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1909440" y="6308640"/>
            <a:ext cx="88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ход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4142520" y="630864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ход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6167520" y="6159600"/>
            <a:ext cx="14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фицит (-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фицит 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923040" y="492120"/>
            <a:ext cx="70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полнение бюджета городского округа город Первомайс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жегородской обл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анные на 01.08.2018 года, млн.рубл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4T05:53:39Z</dcterms:created>
  <dc:creator>bud03</dc:creator>
  <dc:description/>
  <dc:language>en-US</dc:language>
  <cp:lastModifiedBy>bud</cp:lastModifiedBy>
  <cp:lastPrinted>2017-02-10T08:44:39Z</cp:lastPrinted>
  <dcterms:modified xsi:type="dcterms:W3CDTF">2018-08-08T07:51:26Z</dcterms:modified>
  <cp:revision>419</cp:revision>
  <dc:subject/>
  <dc:title>Слайд 1</dc:title>
</cp:coreProperties>
</file>